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555-618E-42F5-8B48-915E5ED5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0238-59F6-42B3-A93D-D2661625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A8F3-7E93-463A-A5F4-01491D19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A29E-10B9-4242-9095-A21877A6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F822-DC83-40F1-BDA6-4812C4D6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1C76-223B-4782-9F03-7283BDF9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D94B-0378-4805-B87C-F118015F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CFCA-54DD-4065-996F-866A5CA0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ED41-EF6F-4DB9-8AF1-2389241A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387D-AC4F-44E1-A5C3-45110ABC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F7AF-1D25-4407-83C1-C725B714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205D-F1F7-4FDF-944B-A9C677E8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6C87-BBA0-4D9C-A208-890280CA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B98A-CC33-4348-8024-D69E353B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CC73-A02F-4B38-B371-00B3FC7F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2A3D-03CB-4F9F-8CAF-63FEFC68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6917-1DF7-475D-967A-768506BA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A71-40F5-4C53-9D59-4DED6145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60BF-54F9-4D95-A388-A309FA36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FFAD-FEB8-46BD-817D-6B577C9F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253-B0DD-49B7-AC95-763D6090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4BC6-0EDF-407F-82C8-F5647383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9A5-FE5A-4D1F-8C7F-A62FBF9D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677-88DC-4FA9-8BCE-4C0C79C5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76DB-BB72-44F8-9C95-97B7B4A761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4C3F-0529-4C0C-ADC2-BF3CAB0EA8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Resolução Administrativa TCE-TO n° 08/2008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térios para emissão de Parecer Prévio – contas consolid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Wellane M.D.Si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9349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cont.) Restrições de Ordem constitucional gravíssim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ência de recolhimento, ou recolhimento a menor, das cotas de contribuição patronal do Ente à instituição de previdência (art. 195, I da Constituição Federa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ência de retenção, ou retenção a menor, da contribuição previdenciária dos servidores/empregados, bem como ausência de recolhimento, ou recolhimento a menor, das referidas contribuições à instituição de previdência (art. 195, II da Constituição Federa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RESTRIÇÕES DE ORDEM LEGAL GRAVÍSSIMA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strições de Ordem Legal - GRAVÍSSIM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ficit de execução orçamentária –exceção (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umprimento da estrita ordem cronológica das exigib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umprimento do limite da dívida consolid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cont.) Restrições – Ordem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egal (gravíssimas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ão atendimento aos Princípios Fundamentais de Contabilidade e técnicas de registros contábeis (abrange omissão de ativos, passivos, receitas, despesas, ajuste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contabilização como dívidas – precatórios não pagos na execução do Orç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nar operação de crédito sem autorização legislativa ou que supere os limites estabelecidos em Resolução do Senado Fed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cont.) Restrição – Ordem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egal Gravíssim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de mandato – artigo 42 da LC n° 101/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ar despesa com pessoal nos últimos 180 d do mand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umprimento do limite legal de despesa com pess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orrência de déficit financeiro e/ou inscrição de restos a pagar sem disponibilidade financ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RESTRIÇÕES DE ORDEM LEGAL  - GRAV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strições de orde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legal - grav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licação de receita de alienação de bens em despesa corrente, salvo se destinada ao regime de Previdência Próprio dos servidores públic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estar garantia em Operação de crédito sem que tenha sido constituída contragarantia em valor igual ou sup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ixar de enviar ou divulgar o RGF nos prazos e condições estabelecidos em 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cont.)Restrições de orde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legal - grav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esentar LDO sem o Anexo de Metas e Riscos Fisc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limitar a expedição de empenhos e a movimentação financeira nos casos estabelecidos em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iciência de arrecadação tributária quando não comprovadas providências de combate à evasão e a sonegação e demais medidas para incremento das receitas tributá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cont.) Restrições de orde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legal - grav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boração de orçamento superestimado (abaixo de 65% e observada a arrecadação dos últimos 3 a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Obrigada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arecer Prévi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s consolidadas (inclui todos os Poderes/Órgã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ise com base nos Balanços e Relatório Geren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que: cumprimento de normas constitucionais e legais, e dos instrumentos de planej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934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i Orgânica – art. 10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parecer prévio (...) consistirá em apreciação geral e fundamentada da gestão (...) devendo demonstra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 o Balanço Geral do Município representa adequadamente a posiç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anceira, orçamentária e patrimonial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nicíp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m 31 de dezembro, bem como se as operações estão de acordo com o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ípios fundamentais de contabilida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licados à administração pública municipal, concluindo por recomendar a aprovação ou a rejeição das co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934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CE-T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DADE DA INFORMAÇÃO DOS BALANÇOS ENCAMINHADOS AO TRIBUNAL DE CO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solução Administrativa n° 08/2008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tabelece critérios que devem ser observados para emissão de parecer prévio sobre contas anuais no âmbito deste Tribunal de Cont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stabelece as principais irregularidades que constituem fator de rejeição das contas anuais consolida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186920" y="1341000"/>
            <a:ext cx="72723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TRIÇÕES DE ORDEM CONSTITUCIONAL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AVÍSSIM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STRIÇÕES DE ORDEM CONSTITUCIONAL – GRAVÍSSIMA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aplicação de no mínimo 25% das receitas de impostos em MDE – edu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aplicação dos 60% do FUNDEB em remuneração dos profissionais do magisté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aplicação de no mínimo 15%-Municípios, das receitas de impostos em saú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cont.) Restrições de Ordem constitucional gravíssim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sse de valores ao Poder Legislativo em desacordo com os limites estabelecidos na Constituição Feder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umprimento ao que dispõe o art. 167 da Constituição Feder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tação de pessoal por tempo determinado sem lei aprovada pela Câmara Municipal, ou contínua renovação de contrato como burla ao concurso públ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(cont.) Restrições de Ordem constitucional gravíssim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ão inclusão, no orçamento, da verba necessária ao pagamento de seus débitos oriundos de sentenças transitadas em julgado, constantes 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atório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esentados até 1º de julho, fazendo-se o pagamento até o final do exercício seguinte, quando terão seus valores atualizados monetariam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18:32:07Z</dcterms:created>
  <dc:creator>wellanemds</dc:creator>
  <dc:description/>
  <dc:language>en-US</dc:language>
  <cp:lastModifiedBy>wellanemds</cp:lastModifiedBy>
  <dcterms:modified xsi:type="dcterms:W3CDTF">2008-06-12T19:25:25Z</dcterms:modified>
  <cp:revision>12</cp:revision>
  <dc:subject/>
  <dc:title>Resolução Administrativa TCE-TO n° 08/2008</dc:title>
</cp:coreProperties>
</file>